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A94-8CE2-4BC4-BE10-F41AD387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805-0D33-489D-B219-470E29E5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8AE-4269-44E2-9648-A2C0CFCC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49A-31B4-46D0-A547-D04BE98A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6E4F-6CD5-45F2-8FDA-36DA54F3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0AE8-7912-482F-A1FC-5AB949D1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0776-4BC5-4FA2-AE2F-C9FD1006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DB8C-75A1-49C6-B293-590DBD21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F209-A200-4DD5-BF8D-5435F5C2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8F54-45D8-431F-9C24-A779C902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95C5-E9B2-4EED-ACFD-6215807D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C83F-AE78-4D1E-981C-BB2265B8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EEAC-04D1-4AAE-901F-1A810184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6DA2-FC70-4D0D-9F4F-8C0D57E6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501E-B7DB-4AD9-870E-0BEB210D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D17F-1FCC-4E60-A4B3-0C4EA2BC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9E9A-16F8-41FA-81B5-1082940C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4675-7023-4D32-882C-75A0E707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C015-6BFC-4D51-B3B2-B06A8209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3AB-2756-4F11-893D-62154304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BA8-D130-4852-B6AB-C7A811BF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32E-5374-4473-B5A0-4C8AA6BD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2AD-CF30-4A19-9CBC-F0A72CFB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795-0DF6-4831-B8F4-45088C59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F21B-B3DD-415D-9AB2-FEC574D150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CE6C-50F9-4A5B-BD49-B41AC562B2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CKs Flow: Here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, and Back Ag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ala Guha, Jerry Qi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eja Putic, Adam Ca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/13/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E 686: SoC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33600" indent="-6336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size top level HDL without sc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33600" indent="-6336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 necessary I/O into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3600" indent="-55440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DD, VSS, Corners, Scan Enable, et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33600" indent="-6336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-synthesize this new verilog net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3600" indent="-55440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synthesis will insert scan cha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33600" indent="-6336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 proper scan.def file for Encou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Chain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the Scan and Test enable 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specific chains or le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TL compiler auto creat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FT rule che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s whether flop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scan ready – generally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command fixes errors? – Y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fix_dft_violations -async_set_reset -test_mode T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Details (con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define details of scan ch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, min number (for auto-gen.)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TSMC, maps all flops as scan fl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tell RTL compiler to reroute the scan and test enable signals to these fl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siz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l scan conn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2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 level, scan inserted, ne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def file containing scan chain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stem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- AutoChain_17_seg1_CLK_rising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+ START PIN DFT_sdi_1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+ FLOATING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0][isel][1] ( IN SI ) ( OUT Q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0][isel][2] ( IN SI ) ( OUT Q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0][isel][3] ( IN SI ) ( OUT Q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0][isel][4] ( IN SI ) ( OUT Q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0][pol] ( IN SI ) ( OUT Q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1][edge] ( IN SI ) ( OUT Q )</a:t>
            </a:r>
            <a:r>
              <a:rPr b="1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stem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Chain in Encoun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ed top netlist and .def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155600" y="627840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-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66120" y="62784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-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2" descr=""/>
          <p:cNvPicPr/>
          <p:nvPr/>
        </p:nvPicPr>
        <p:blipFill>
          <a:blip r:embed="rId1"/>
          <a:stretch/>
        </p:blipFill>
        <p:spPr>
          <a:xfrm>
            <a:off x="228600" y="2697120"/>
            <a:ext cx="4191120" cy="3571920"/>
          </a:xfrm>
          <a:prstGeom prst="rect">
            <a:avLst/>
          </a:prstGeom>
          <a:ln w="0">
            <a:noFill/>
          </a:ln>
        </p:spPr>
      </p:pic>
      <p:pic>
        <p:nvPicPr>
          <p:cNvPr id="131" name="3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26708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Chain in Encoun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d manually firs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nted to show scan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also work with Jerry’s .tcl 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th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outing -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4" descr=""/>
          <p:cNvPicPr/>
          <p:nvPr/>
        </p:nvPicPr>
        <p:blipFill>
          <a:blip r:embed="rId1"/>
          <a:stretch/>
        </p:blipFill>
        <p:spPr>
          <a:xfrm>
            <a:off x="4724280" y="3657600"/>
            <a:ext cx="411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 for Test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selectively scan y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verify scan ch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 needs library files in .v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means cannot generate test ve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not implemented Conform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Equivalence Chec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ts of manual constraints in the 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mory Gen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Jerry and Jiajing’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ied gen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d memories for SoCKs in TSM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wrapper necessary, HDL files had exactly the correct inputs and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cky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front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 end syn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ed verilog netl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ed and tested wishbone co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scan ch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28954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C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 / Software co-design env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on SPARC C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BA 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oftware that uses custom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, test bench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C compiler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ontribution to SoC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ed and verified wishbone c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ing verilog net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front and back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in TSMC .18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ed scan ch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 for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m Ca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ib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/O Pad Inser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n Chain Inser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s and Libr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ded on TSMC .18 um for p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SMC library also provides scan fl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n Artisan lib – No physical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library also allowed for easy porting of the generic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eneric library is similar to TSM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ied HDL files to match the .lib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was a manual change to the HD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removed one entire file from syn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ed to add VDD, VSS, corner, and scan pads to the top verilog net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synthesize pads with no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d the .io file for Encou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io file necessary for proper pad pla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Orient: R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ad: RingInst/pad42EM_A_21 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Orient: R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ad: RingInst/PCur 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Orient: R2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ad: RingInst/PVdd2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Orient: R2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ad: RingInst/PVss2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1" descr=""/>
          <p:cNvPicPr/>
          <p:nvPr/>
        </p:nvPicPr>
        <p:blipFill>
          <a:blip r:embed="rId1"/>
          <a:stretch/>
        </p:blipFill>
        <p:spPr>
          <a:xfrm>
            <a:off x="4919760" y="3087720"/>
            <a:ext cx="407196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Ch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n Chain – Provides ability to test sequential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a shift register in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existing registers as the shifter re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traightforward to implem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RTL compl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02:39:16Z</dcterms:created>
  <dc:creator> HPLP</dc:creator>
  <dc:description/>
  <dc:language>en-US</dc:language>
  <cp:lastModifiedBy> HPLP</cp:lastModifiedBy>
  <dcterms:modified xsi:type="dcterms:W3CDTF">2006-12-15T19:17:29Z</dcterms:modified>
  <cp:revision>11</cp:revision>
  <dc:subject/>
  <dc:title>SoCKs Flow: Here,  There, and Back Again</dc:title>
</cp:coreProperties>
</file>